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100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5200" y="750600"/>
            <a:ext cx="5008680" cy="375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55960"/>
            <a:ext cx="5486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51192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51192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478B-A332-4C28-9843-10DB83C1C76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206D-B375-420B-BDAD-4DA6C6448E7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5008680" cy="37558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755960"/>
            <a:ext cx="50292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A806-167E-442E-B83F-BA6AFF4E36F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5008680" cy="37558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755960"/>
            <a:ext cx="50292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1F4C-9F0E-4239-A5AA-DF5BA7F2B86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5008680" cy="37558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755960"/>
            <a:ext cx="50292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CD0E-58CF-4676-AE4B-1BEA43FED79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5008680" cy="37558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755960"/>
            <a:ext cx="50292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491C-82E9-4DCF-8B38-0F3DBE077A8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5008680" cy="37558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755960"/>
            <a:ext cx="50292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45C5-92CA-4632-82BB-C9C999FBB7D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5008680" cy="37558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755960"/>
            <a:ext cx="50292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C956-F579-4BCC-A935-56B4FBFB9DC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5008680" cy="37558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755960"/>
            <a:ext cx="50292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8969-6300-410D-967C-16967991F6A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5008680" cy="37558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755960"/>
            <a:ext cx="50292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A0B4-09F1-464D-B041-E0F2E44A55E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5008680" cy="37558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755960"/>
            <a:ext cx="50292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F7DB-BC01-4F09-A592-D750661845A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5008680" cy="37558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755960"/>
            <a:ext cx="50292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2AA6-A215-42CC-9D84-727F06D16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7148-68C5-4DE4-8411-AC3C2176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5605-8D0C-492C-8093-AFBAC3193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0522-C07E-40A4-B138-CCC00B804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3036-DD39-4274-9267-8F8709CD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B110-A86E-4BD0-8FE8-49E13FE6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3507-0FEF-4CD8-9989-97977E2D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C1BB-4043-4E23-87ED-90727345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8CE8-C1F9-45FB-9B51-9670DD78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298B-4EF2-4D38-B654-9FEB2A56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98AC-73E7-4555-B2B2-40D35B92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459B-C943-4581-BB65-D7E92B1A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548B-4B51-4DFE-AF23-BBDD57B1E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UPEMENT POUR LA NAVIGABILITE DES AERONEFS DU VOL A VO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ETAT D’AVANCEMENT  DU G-NA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EUROSITES LA CHAPELLE, PARIS le  25 OCT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24000" y="638172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is le 25 Oct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6"/>
          <p:cNvGraphicFramePr/>
          <p:nvPr/>
        </p:nvGraphicFramePr>
        <p:xfrm>
          <a:off x="395280" y="260280"/>
          <a:ext cx="100800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1008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Line 7"/>
          <p:cNvSpPr/>
          <p:nvPr/>
        </p:nvSpPr>
        <p:spPr>
          <a:xfrm>
            <a:off x="250920" y="1484280"/>
            <a:ext cx="8642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TEE EN PUISSANC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APES C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tion des inspecteurs: 25/10/2008 à 31/05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Agrément d’organisme G: 31/12/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xamens supervisés: 01/01/2009 à 31/12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onstitution progressive du réseau des PEN:01/01/2009 à 31/12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(Formalisation des contrats d’emplois vaca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ormalisation des contrats des adhérents: 01/02/2009 à 31/12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Début des examens par le G-NAV: 01/02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Capacité complète à renouveler le CEN des adhérents: 01/01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324000" y="638172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is le 25 Oct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6"/>
          <p:cNvGraphicFramePr/>
          <p:nvPr/>
        </p:nvGraphicFramePr>
        <p:xfrm>
          <a:off x="395280" y="260280"/>
          <a:ext cx="100800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1008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Line 7"/>
          <p:cNvSpPr/>
          <p:nvPr/>
        </p:nvSpPr>
        <p:spPr>
          <a:xfrm>
            <a:off x="250920" y="1484280"/>
            <a:ext cx="8642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03280" y="2282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UT, OBJET, ORGAN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Statu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Association loi 1901, siège à St AUB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Adhérents: clubs et propriétaires de planeurs affiliés à la FFV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00"/>
                </a:solidFill>
                <a:latin typeface="Arial"/>
              </a:rPr>
              <a:t>Obje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349"/>
              </a:spcBef>
              <a:buClr>
                <a:srgbClr val="99cc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00"/>
                </a:solidFill>
                <a:latin typeface="Arial"/>
              </a:rPr>
              <a:t>Renouvellement des CEN des planeurs, moto-planeurs, remorqueurs des adhér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349"/>
              </a:spcBef>
              <a:buClr>
                <a:srgbClr val="99cc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00"/>
                </a:solidFill>
                <a:latin typeface="Arial"/>
              </a:rPr>
              <a:t>Constitution de la base documentaire de navigabilité nécessaire aux inspecteurs et aux adhér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349"/>
              </a:spcBef>
              <a:buClr>
                <a:srgbClr val="99cc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00"/>
                </a:solidFill>
                <a:latin typeface="Arial"/>
              </a:rPr>
              <a:t>Gestion de la navigabilité des aéronefs appartenant à la FFVV  et exploités par le CNV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Organis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Une équipe permanente de 6 salariés (4,5 ETP) basés à ST AUB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Un réseau de 30 à 40 inspecteurs vacataires (2 à 3 ETP) répartis en rég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4000" y="638172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is 25 Oct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6"/>
          <p:cNvGraphicFramePr/>
          <p:nvPr/>
        </p:nvGraphicFramePr>
        <p:xfrm>
          <a:off x="395280" y="260280"/>
          <a:ext cx="100800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1008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Line 7"/>
          <p:cNvSpPr/>
          <p:nvPr/>
        </p:nvSpPr>
        <p:spPr>
          <a:xfrm>
            <a:off x="250920" y="1484280"/>
            <a:ext cx="8642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NNEES DE PLAN DE CH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915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éronefs préinscrits (suite à circulaire de juin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urriers de relance en prépa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s 86 aéroclubs (environ 850 aéronefs concerné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s 307 propriétaires privés (environ 300 aéronefs concernés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24000" y="638172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is 25 Oct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6"/>
          <p:cNvGraphicFramePr/>
          <p:nvPr/>
        </p:nvGraphicFramePr>
        <p:xfrm>
          <a:off x="395280" y="260280"/>
          <a:ext cx="100800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1008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Line 7"/>
          <p:cNvSpPr/>
          <p:nvPr/>
        </p:nvSpPr>
        <p:spPr>
          <a:xfrm>
            <a:off x="250920" y="1484280"/>
            <a:ext cx="8642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9640" y="2637000"/>
          <a:ext cx="8353440" cy="1976400"/>
        </p:xfrm>
        <a:graphic>
          <a:graphicData uri="http://schemas.openxmlformats.org/drawingml/2006/table">
            <a:tbl>
              <a:tblPr/>
              <a:tblGrid>
                <a:gridCol w="1944720"/>
                <a:gridCol w="1655640"/>
                <a:gridCol w="1655640"/>
                <a:gridCol w="1584360"/>
                <a:gridCol w="1513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é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V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e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-plane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orque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735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GRAMME OPERATI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24000" y="638172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is 25 Oct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6"/>
          <p:cNvGraphicFramePr/>
          <p:nvPr/>
        </p:nvGraphicFramePr>
        <p:xfrm>
          <a:off x="395280" y="260280"/>
          <a:ext cx="100800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1008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Line 7"/>
          <p:cNvSpPr/>
          <p:nvPr/>
        </p:nvSpPr>
        <p:spPr>
          <a:xfrm>
            <a:off x="250920" y="1484280"/>
            <a:ext cx="8642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11280" y="1773360"/>
            <a:ext cx="7200000" cy="2029680"/>
            <a:chOff x="611280" y="1773360"/>
            <a:chExt cx="7200000" cy="2029680"/>
          </a:xfrm>
        </p:grpSpPr>
        <p:cxnSp>
          <p:nvCxnSpPr>
            <p:cNvPr id="78" name="_s4119"/>
            <p:cNvCxnSpPr>
              <a:stCxn id="79" idx="1"/>
              <a:endCxn id="80" idx="2"/>
            </p:cNvCxnSpPr>
            <p:nvPr/>
          </p:nvCxnSpPr>
          <p:spPr>
            <a:xfrm rot="10800000">
              <a:off x="4210560" y="2279880"/>
              <a:ext cx="360720" cy="507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4117"/>
            <p:cNvCxnSpPr>
              <a:stCxn id="82" idx="3"/>
              <a:endCxn id="80" idx="2"/>
            </p:cNvCxnSpPr>
            <p:nvPr/>
          </p:nvCxnSpPr>
          <p:spPr>
            <a:xfrm flipV="1">
              <a:off x="3851280" y="2279880"/>
              <a:ext cx="360720" cy="507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4115"/>
            <p:cNvCxnSpPr>
              <a:stCxn id="84" idx="0"/>
              <a:endCxn id="80" idx="2"/>
            </p:cNvCxnSpPr>
            <p:nvPr/>
          </p:nvCxnSpPr>
          <p:spPr>
            <a:xfrm flipV="1" rot="16200000">
              <a:off x="4963320" y="1527120"/>
              <a:ext cx="1015560" cy="2520720"/>
            </a:xfrm>
            <a:prstGeom prst="bentConnector3">
              <a:avLst>
                <a:gd name="adj1" fmla="val 521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4114"/>
            <p:cNvCxnSpPr>
              <a:stCxn id="86" idx="0"/>
              <a:endCxn id="80" idx="2"/>
            </p:cNvCxnSpPr>
            <p:nvPr/>
          </p:nvCxnSpPr>
          <p:spPr>
            <a:xfrm flipV="1">
              <a:off x="4211280" y="2279880"/>
              <a:ext cx="2880" cy="1015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4113"/>
            <p:cNvCxnSpPr>
              <a:stCxn id="88" idx="0"/>
              <a:endCxn id="80" idx="2"/>
            </p:cNvCxnSpPr>
            <p:nvPr/>
          </p:nvCxnSpPr>
          <p:spPr>
            <a:xfrm flipH="1" flipV="1" rot="5400000">
              <a:off x="2443680" y="1527480"/>
              <a:ext cx="1015560" cy="2520720"/>
            </a:xfrm>
            <a:prstGeom prst="bentConnector3">
              <a:avLst>
                <a:gd name="adj1" fmla="val 521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0" name="_s4109"/>
            <p:cNvSpPr/>
            <p:nvPr/>
          </p:nvSpPr>
          <p:spPr>
            <a:xfrm>
              <a:off x="3131280" y="1773360"/>
              <a:ext cx="2160000" cy="5072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irecteur (DR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. MALAVERGN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4110"/>
            <p:cNvSpPr/>
            <p:nvPr/>
          </p:nvSpPr>
          <p:spPr>
            <a:xfrm>
              <a:off x="611280" y="3295800"/>
              <a:ext cx="2160000" cy="5072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Gestion Navigabilité (RNG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M. SOYEZ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4111"/>
            <p:cNvSpPr/>
            <p:nvPr/>
          </p:nvSpPr>
          <p:spPr>
            <a:xfrm>
              <a:off x="3131280" y="3295800"/>
              <a:ext cx="2160000" cy="5072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ontrôle Navigabilité (RC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4112"/>
            <p:cNvSpPr/>
            <p:nvPr/>
          </p:nvSpPr>
          <p:spPr>
            <a:xfrm>
              <a:off x="5651280" y="3295800"/>
              <a:ext cx="2160000" cy="507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I&amp;BD (RSI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4116"/>
            <p:cNvSpPr/>
            <p:nvPr/>
          </p:nvSpPr>
          <p:spPr>
            <a:xfrm>
              <a:off x="1691280" y="2534400"/>
              <a:ext cx="2160000" cy="5072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Qualité (RQ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4118"/>
            <p:cNvSpPr/>
            <p:nvPr/>
          </p:nvSpPr>
          <p:spPr>
            <a:xfrm>
              <a:off x="4571280" y="2534400"/>
              <a:ext cx="2160000" cy="507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Assistante (AD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. CHAVANE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4427640" y="3933720"/>
            <a:ext cx="20667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43280" y="4149720"/>
            <a:ext cx="206712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59280" y="4365720"/>
            <a:ext cx="206712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6720" y="4581360"/>
            <a:ext cx="206712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92720" y="4797360"/>
            <a:ext cx="20667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08720" y="5013360"/>
            <a:ext cx="20667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24360" y="5229360"/>
            <a:ext cx="206712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pecteurs (P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35640" y="321300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ÈME D’INFORMATION &amp; BASE DOCUMENT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1413000"/>
            <a:ext cx="7417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cc00"/>
                </a:solidFill>
                <a:latin typeface="Arial"/>
              </a:rPr>
              <a:t>Obje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374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99cc00"/>
                </a:solidFill>
                <a:latin typeface="Arial"/>
              </a:rPr>
              <a:t>Faciliter la mise à jour des Programmes d’Entretien des adhér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374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99cc00"/>
                </a:solidFill>
                <a:latin typeface="Arial"/>
              </a:rPr>
              <a:t>Faciliter le travail des inspecte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374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99cc00"/>
                </a:solidFill>
                <a:latin typeface="Arial"/>
              </a:rPr>
              <a:t>Alerter les adhérents (CN, interdiction de vol,..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374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99cc00"/>
                </a:solidFill>
                <a:latin typeface="Arial"/>
              </a:rPr>
              <a:t>Informer les adhérents sur l’activité du G-NA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900"/>
                </a:solidFill>
                <a:latin typeface="Arial"/>
              </a:rPr>
              <a:t>Conten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374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f9900"/>
                </a:solidFill>
                <a:latin typeface="Arial"/>
              </a:rPr>
              <a:t>Manuels de vo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374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f9900"/>
                </a:solidFill>
                <a:latin typeface="Arial"/>
              </a:rPr>
              <a:t>Manuels d’entretien/ répa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374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f9900"/>
                </a:solidFill>
                <a:latin typeface="Arial"/>
              </a:rPr>
              <a:t>Documentation constructeur sous-ensembles et instrum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374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f9900"/>
                </a:solidFill>
                <a:latin typeface="Arial"/>
              </a:rPr>
              <a:t>Listes des CN et des BS pertin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374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f9900"/>
                </a:solidFill>
                <a:latin typeface="Arial"/>
              </a:rPr>
              <a:t>Cardex standar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374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f9900"/>
                </a:solidFill>
                <a:latin typeface="Arial"/>
              </a:rPr>
              <a:t>Programmes d’entreti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374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f9900"/>
                </a:solidFill>
                <a:latin typeface="Arial"/>
              </a:rPr>
              <a:t>Situation des appareils sous contrô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374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ff9900"/>
                </a:solidFill>
                <a:latin typeface="Arial"/>
              </a:rPr>
              <a:t>Conseils et bonnes pratiqu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99"/>
                </a:solidFill>
                <a:latin typeface="Arial"/>
              </a:rPr>
              <a:t>Accessibilité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374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9999"/>
                </a:solidFill>
                <a:latin typeface="Arial"/>
              </a:rPr>
              <a:t>En ligne en consultation seule pour les adhéren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374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9999"/>
                </a:solidFill>
                <a:latin typeface="Arial"/>
              </a:rPr>
              <a:t>En ligne en renseignement et consultation pour les inspecte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24000" y="638172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is 25 Oct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6"/>
          <p:cNvGraphicFramePr/>
          <p:nvPr/>
        </p:nvGraphicFramePr>
        <p:xfrm>
          <a:off x="395280" y="260280"/>
          <a:ext cx="100800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1008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Line 7"/>
          <p:cNvSpPr/>
          <p:nvPr/>
        </p:nvSpPr>
        <p:spPr>
          <a:xfrm>
            <a:off x="250920" y="1484280"/>
            <a:ext cx="8642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9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9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9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9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9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9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000" y="22824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STION DU PROCESSUS DE CONT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24000" y="638172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is13 Ju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6"/>
          <p:cNvGraphicFramePr/>
          <p:nvPr/>
        </p:nvGraphicFramePr>
        <p:xfrm>
          <a:off x="395280" y="260280"/>
          <a:ext cx="100800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1008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Line 7"/>
          <p:cNvSpPr/>
          <p:nvPr/>
        </p:nvSpPr>
        <p:spPr>
          <a:xfrm>
            <a:off x="250920" y="1484280"/>
            <a:ext cx="8642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546560" y="1772280"/>
            <a:ext cx="6768720" cy="4320360"/>
            <a:chOff x="1546560" y="1772280"/>
            <a:chExt cx="6768720" cy="4320360"/>
          </a:xfrm>
        </p:grpSpPr>
        <p:sp>
          <p:nvSpPr>
            <p:cNvPr id="112" name=""/>
            <p:cNvSpPr/>
            <p:nvPr/>
          </p:nvSpPr>
          <p:spPr>
            <a:xfrm>
              <a:off x="2986920" y="1772280"/>
              <a:ext cx="1728000" cy="28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SPECTEUR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92080" y="1915560"/>
              <a:ext cx="1728000" cy="287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SPECTEUR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83960" y="2107800"/>
              <a:ext cx="1728000" cy="28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SPECTEUR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94920" y="2348280"/>
              <a:ext cx="1728000" cy="28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SPECTEUR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30920" y="4652640"/>
              <a:ext cx="1728000" cy="288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DHER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23160" y="4844880"/>
              <a:ext cx="1728000" cy="287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DHER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15040" y="5036760"/>
              <a:ext cx="1728000" cy="288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DHER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07280" y="5228640"/>
              <a:ext cx="1728000" cy="288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DHER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99160" y="5420880"/>
              <a:ext cx="1728000" cy="287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DHER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62920" y="3068640"/>
              <a:ext cx="1728000" cy="1008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-NA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35280" y="2636640"/>
              <a:ext cx="1440000" cy="7200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rdre de mission pour  examen de navigabilité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79280" y="4364640"/>
              <a:ext cx="1440000" cy="720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pprobation des programmes d’entreti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11280" y="3500640"/>
              <a:ext cx="1440000" cy="7200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mandes d’examen de navigabilit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87640" y="5228640"/>
              <a:ext cx="1440000" cy="8640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xamen de navigabilit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nouvellement de C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6560" y="4076640"/>
              <a:ext cx="1296000" cy="720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ventions de contrôle de navigabilit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34920" y="3212640"/>
              <a:ext cx="1296000" cy="7200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mpte-rendu d’examen de navigabilit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8" name=""/>
            <p:cNvCxnSpPr>
              <a:stCxn id="124" idx="1"/>
              <a:endCxn id="121" idx="3"/>
            </p:cNvCxnSpPr>
            <p:nvPr/>
          </p:nvCxnSpPr>
          <p:spPr>
            <a:xfrm rot="10800000">
              <a:off x="5290560" y="3571920"/>
              <a:ext cx="720720" cy="288720"/>
            </a:xfrm>
            <a:prstGeom prst="bentConnector3">
              <a:avLst>
                <a:gd name="adj1" fmla="val 49975"/>
              </a:avLst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1" idx="0"/>
              <a:endCxn id="122" idx="1"/>
            </p:cNvCxnSpPr>
            <p:nvPr/>
          </p:nvCxnSpPr>
          <p:spPr>
            <a:xfrm flipH="1" flipV="1" rot="5400000">
              <a:off x="4894920" y="2528640"/>
              <a:ext cx="72360" cy="1008720"/>
            </a:xfrm>
            <a:prstGeom prst="bentConnector2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2" idx="0"/>
              <a:endCxn id="114" idx="3"/>
            </p:cNvCxnSpPr>
            <p:nvPr/>
          </p:nvCxnSpPr>
          <p:spPr>
            <a:xfrm flipV="1" rot="16200000">
              <a:off x="5641200" y="2122200"/>
              <a:ext cx="385200" cy="643320"/>
            </a:xfrm>
            <a:prstGeom prst="bentConnector2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14" idx="1"/>
              <a:endCxn id="127" idx="0"/>
            </p:cNvCxnSpPr>
            <p:nvPr/>
          </p:nvCxnSpPr>
          <p:spPr>
            <a:xfrm flipV="1" rot="10800000">
              <a:off x="2482200" y="2250720"/>
              <a:ext cx="1301400" cy="961560"/>
            </a:xfrm>
            <a:prstGeom prst="bentConnector2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7" idx="3"/>
              <a:endCxn id="121" idx="1"/>
            </p:cNvCxnSpPr>
            <p:nvPr/>
          </p:nvCxnSpPr>
          <p:spPr>
            <a:xfrm>
              <a:off x="3130920" y="3572640"/>
              <a:ext cx="432720" cy="1440"/>
            </a:xfrm>
            <a:prstGeom prst="bentConnector2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14" idx="3"/>
              <a:endCxn id="125" idx="3"/>
            </p:cNvCxnSpPr>
            <p:nvPr/>
          </p:nvCxnSpPr>
          <p:spPr>
            <a:xfrm>
              <a:off x="5511600" y="2251800"/>
              <a:ext cx="2516040" cy="3409920"/>
            </a:xfrm>
            <a:prstGeom prst="bentConnector3">
              <a:avLst>
                <a:gd name="adj1" fmla="val 111448"/>
              </a:avLst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3" idx="1"/>
              <a:endCxn id="121" idx="3"/>
            </p:cNvCxnSpPr>
            <p:nvPr/>
          </p:nvCxnSpPr>
          <p:spPr>
            <a:xfrm rot="10800000">
              <a:off x="5290560" y="3571920"/>
              <a:ext cx="288360" cy="1152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2"/>
              <a:endCxn id="119" idx="3"/>
            </p:cNvCxnSpPr>
            <p:nvPr/>
          </p:nvCxnSpPr>
          <p:spPr>
            <a:xfrm rot="5400000">
              <a:off x="5722920" y="4796640"/>
              <a:ext cx="288360" cy="864720"/>
            </a:xfrm>
            <a:prstGeom prst="bentConnector2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6" idx="3"/>
              <a:endCxn id="121" idx="2"/>
            </p:cNvCxnSpPr>
            <p:nvPr/>
          </p:nvCxnSpPr>
          <p:spPr>
            <a:xfrm flipV="1">
              <a:off x="2842920" y="4076280"/>
              <a:ext cx="1584720" cy="360720"/>
            </a:xfrm>
            <a:prstGeom prst="bentConnector2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6" idx="2"/>
              <a:endCxn id="117" idx="1"/>
            </p:cNvCxnSpPr>
            <p:nvPr/>
          </p:nvCxnSpPr>
          <p:spPr>
            <a:xfrm flipH="1" rot="16200000">
              <a:off x="2661840" y="4328280"/>
              <a:ext cx="192600" cy="1128600"/>
            </a:xfrm>
            <a:prstGeom prst="bentConnector2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OLOGIE DES ADHER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Adhérent assimilable à la définition de pilote propriétaire pour la maintenance et la ges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49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00"/>
                </a:solidFill>
                <a:latin typeface="Arial"/>
              </a:rPr>
              <a:t>Club hors environnement contrôl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49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00"/>
                </a:solidFill>
                <a:latin typeface="Arial"/>
              </a:rPr>
              <a:t>Propriétaire isol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Adhérent assimilable à la définition du pilote propriétaire pour la gestion uniqueme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Club avec organisme de maintenance agréé (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49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ropriétaire rattaché à un club avec organisme de maintenance agréé (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Adhérent en environnement contrôl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Club ou autre doté d’un atelier agréé (F) sous-traitant la gestion de la navigabilité au G-NAV (cas du CNV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24000" y="638172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is le 25 Oct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6"/>
          <p:cNvGraphicFramePr/>
          <p:nvPr/>
        </p:nvGraphicFramePr>
        <p:xfrm>
          <a:off x="395280" y="260280"/>
          <a:ext cx="100800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1008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Line 7"/>
          <p:cNvSpPr/>
          <p:nvPr/>
        </p:nvSpPr>
        <p:spPr>
          <a:xfrm>
            <a:off x="250920" y="1484280"/>
            <a:ext cx="8642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U DU RECUEIL DE TEX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Chapitre I: Organisation du G-NAV; synthè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Chapitre II: Extraits du Manuel de Gestion de la Naviga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Chapitre III: Textes et règlements de réfé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Chapitre IV: Table des matières du Règlement 2042/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Chapitre V: Examen de Navigabilité: textes de réfé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Chapitre VI: Fiche de poste Personnel d’Examen de Navigabilité (P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Chapitre VII: Fiche de renseignements individuelle 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Chapitre VIII: Entretien des aéronefs de moins de 2730 Kg à usage non commercial; prérogatives du pilote-proprié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324000" y="638172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is le 25 Oct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6"/>
          <p:cNvGraphicFramePr/>
          <p:nvPr/>
        </p:nvGraphicFramePr>
        <p:xfrm>
          <a:off x="395280" y="260280"/>
          <a:ext cx="100800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1008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Line 7"/>
          <p:cNvSpPr/>
          <p:nvPr/>
        </p:nvSpPr>
        <p:spPr>
          <a:xfrm>
            <a:off x="250920" y="1484280"/>
            <a:ext cx="8642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BILITATION DE PERSONNELS D’EXAMEN DE NAVIGABI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cc00"/>
                </a:solidFill>
                <a:latin typeface="Arial"/>
              </a:rPr>
              <a:t>Se porter candidat auprès du G-NA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cc00"/>
                </a:solidFill>
                <a:latin typeface="Arial"/>
              </a:rPr>
              <a:t>Fiche 130b format G-NAV (cf chapitre VII du recue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cc00"/>
                </a:solidFill>
                <a:latin typeface="Arial"/>
              </a:rPr>
              <a:t>EASA FORM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9900"/>
                </a:solidFill>
                <a:latin typeface="Arial"/>
              </a:rPr>
              <a:t>Réunir les conditions selon le règlement au M.A. 7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9900"/>
                </a:solidFill>
                <a:latin typeface="Arial"/>
              </a:rPr>
              <a:t>(cf chapitre V du recue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999"/>
                </a:solidFill>
                <a:latin typeface="Arial"/>
              </a:rPr>
              <a:t>Recevoir la formation complémen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99"/>
                </a:solidFill>
                <a:latin typeface="Arial"/>
              </a:rPr>
              <a:t>Connaissance du Règlement (cf chapitres III, IV, V du recue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99"/>
                </a:solidFill>
                <a:latin typeface="Arial"/>
              </a:rPr>
              <a:t>Connaissance du Manuel d’Organisme du G-NAV (cf chapitre II du recue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999"/>
                </a:solidFill>
                <a:latin typeface="Arial"/>
              </a:rPr>
              <a:t>Entrainement à l’Examen de Navigabilité (cf chapitre II annexe 15 du recue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9900"/>
                </a:solidFill>
                <a:latin typeface="Arial"/>
              </a:rPr>
              <a:t>Subir avec succès une revue supervis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cc00"/>
                </a:solidFill>
                <a:latin typeface="Arial"/>
              </a:rPr>
              <a:t>Etre formellement habilité par le G-NA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324000" y="638172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is 13 Ju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0" y="2959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6"/>
          <p:cNvGraphicFramePr/>
          <p:nvPr/>
        </p:nvGraphicFramePr>
        <p:xfrm>
          <a:off x="395280" y="260280"/>
          <a:ext cx="100800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1008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Line 7"/>
          <p:cNvSpPr/>
          <p:nvPr/>
        </p:nvSpPr>
        <p:spPr>
          <a:xfrm>
            <a:off x="250920" y="1484280"/>
            <a:ext cx="8642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08:02:16Z</dcterms:created>
  <dc:creator>jc.malavergne</dc:creator>
  <dc:description/>
  <dc:language>en-US</dc:language>
  <cp:lastModifiedBy>CHRISTIAN</cp:lastModifiedBy>
  <dcterms:modified xsi:type="dcterms:W3CDTF">2008-10-23T15:44:21Z</dcterms:modified>
  <cp:revision>30</cp:revision>
  <dc:subject/>
  <dc:title>Diapositive 1</dc:title>
</cp:coreProperties>
</file>